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253-090D-4805-857C-85BB38BC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09A-7FF7-408A-A576-F24B638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921-322F-4694-B58F-972C1183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457-A03D-47B6-9963-3747DA5E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1FFE-3734-4FDC-9E9F-FE30FA45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2227-F4A2-4B0C-92CD-585A4005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3B6-E420-4DC3-B994-C54FDD0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87F-486B-4AAD-8BD2-156F5646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F464-2F86-4E3F-A313-3E85447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EE42-9BA1-4350-A0C0-A7E96B3D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EEDF-2075-45A6-87A0-D311CA6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A97-F988-4F6A-8CB3-5588C1A5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2291-4DBD-4CC3-AC7E-73871BB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0CA3-0312-436B-A331-C38D20C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E434-29E1-4708-A5DA-0552D07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55E1-77B6-4C4B-827C-41058905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ABED-4F27-4A1D-AB23-DDB3D92D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3C2-0B6C-446F-8A00-D9143B4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8DF-BB79-4E80-ABAF-ABA316A0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6EE-75EB-4ADE-8498-3226AAA9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6D2-7E63-443B-8AAD-EF40739F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843-848C-4C1D-B651-86C25E7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149-0B5A-43C0-8AF8-D45881CA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31C-A16F-4CE3-9A87-807B046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4FD-B185-4AC8-9024-5F2642BEBB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6D73-7FED-4196-B872-01B148E2FD1C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cc00"/>
                </a:solidFill>
                <a:latin typeface="Monotype Corsiva"/>
              </a:rPr>
              <a:t>Муниципальный земельный контроль</a:t>
            </a:r>
            <a:endParaRPr b="0" lang="en-US" sz="65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9640" y="4632480"/>
            <a:ext cx="8209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cc00"/>
                </a:solidFill>
                <a:latin typeface="Monotype Corsiva"/>
              </a:rPr>
              <a:t>Муниципальный отдел по управлению муниципальным имуществом  администрации Павловского муниципального района </a:t>
            </a:r>
            <a:endParaRPr b="0" lang="en-US" sz="3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27828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9036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9900"/>
                </a:solidFill>
                <a:latin typeface="Tahoma"/>
              </a:rPr>
              <a:t>Статья 8.8. Использование земельных участков не по целевому назначению, невыполнение обязанностей по приведению земель в состояние, пригодное для использования по целевому назначению</a:t>
            </a:r>
            <a:endParaRPr b="0" lang="en-US" sz="1900" spc="-1" strike="noStrike">
              <a:solidFill>
                <a:srgbClr val="e6e6da"/>
              </a:solidFill>
              <a:latin typeface="Verdana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99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Часть 1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222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222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2349360"/>
            <a:ext cx="471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3f907"/>
                </a:solidFill>
                <a:latin typeface="Tahoma"/>
              </a:rPr>
              <a:t>        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3f907"/>
                </a:solidFill>
                <a:latin typeface="Tahoma"/>
              </a:rPr>
              <a:t>        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3f907"/>
                </a:solidFill>
                <a:latin typeface="Tahoma"/>
              </a:rPr>
              <a:t>         </a:t>
            </a:r>
            <a:r>
              <a:rPr b="0" lang="ru-RU" sz="1500" spc="-1" strike="noStrike">
                <a:solidFill>
                  <a:srgbClr val="f3f907"/>
                </a:solidFill>
                <a:latin typeface="Tahoma"/>
              </a:rPr>
              <a:t>Использование земельного участка не по целевому назначению в соответствии с его принадлежностью к той или иной категории земель и (или) разрешенным использованием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148360" y="2997360"/>
            <a:ext cx="399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49" name="Picture 8" descr="img_10414"/>
          <p:cNvPicPr/>
          <p:nvPr/>
        </p:nvPicPr>
        <p:blipFill>
          <a:blip r:embed="rId1"/>
          <a:stretch/>
        </p:blipFill>
        <p:spPr>
          <a:xfrm>
            <a:off x="468360" y="436572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Копия 151886204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4859280" y="2492280"/>
            <a:ext cx="410544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Штрафные санкции: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В случае, если определена кадастровая стоимость земельного участка: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- на граждан в размере от 0,5 до 1 процента кадастровой стоимости земельного участка, но не менее 1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- на должностных лиц - от 1 до 1,5 процента кадастровой стоимости земельного участка, но не менее 2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- на юридических лиц - от 1,5 до 2 процентов кадастровой стоимости земельного участка, но не менее 100 тысяч рублей.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В случае, если не определена кадастровая стоимость земельного участка: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граждан в размере от 5 до 1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должностных лиц – от 20 до 5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юридических лиц – от 100 до 200 тысяч рублей.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525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Часть 2 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  <a:ea typeface="Tahoma"/>
              </a:rPr>
              <a:t>Неиспользование земельного участка из земель сельскохозяйственного назначения, оборот которого регулируется Федеральным законом от 24 июля 2002 года № 101-ФЗ «Об обороте земель сельскохозяйственного назначения», для ведения сельскохозяйственного производства или осуществления иной связанной с сельскохозяйственным производством деятельности в течение срока, установленного указанным Федеральным законом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53" name="Picture 7" descr="news_foto_2008-10-20_1-70_h_orig"/>
          <p:cNvPicPr/>
          <p:nvPr/>
        </p:nvPicPr>
        <p:blipFill>
          <a:blip r:embed="rId1"/>
          <a:stretch/>
        </p:blipFill>
        <p:spPr>
          <a:xfrm>
            <a:off x="684360" y="4508640"/>
            <a:ext cx="4103640" cy="2087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5435640" y="3500280"/>
            <a:ext cx="345744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Штрафные санкции: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- на граждан и индивидуальных предпринимателей в размере от 0,1 до 0,3 процента кадастровой стоимости земельного участка, но не менее                     2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  <a:ea typeface="Tahoma"/>
              </a:rPr>
              <a:t>- на юридических лиц - от 1 до 6 процентов кадастровой стоимости земельного участка, но не менее                     100 тысяч рублей.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6e6da"/>
                </a:solidFill>
                <a:latin typeface="Tahoma"/>
                <a:ea typeface="Tahoma"/>
              </a:rPr>
              <a:t>        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79280" y="1197000"/>
            <a:ext cx="89647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Статья 8.8. Использование земельных участков не по целевому назначению, невыполнение обязанностей по приведению земель в состояние, пригодное для использования по целевому назначению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56" name="Picture 10" descr="Копия 151886204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6840" y="2349360"/>
            <a:ext cx="3467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Часть 3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ahoma"/>
                <a:ea typeface="Tahoma"/>
              </a:rPr>
              <a:t>Неиспользование земельного участка, предназначенного для жилищного или иного строительства, садоводства, огородничества, в указанных целях в случае, если обязанность по использованию такого земельного участка в течение установленного срока предусмотрена федеральным законом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067280" y="2420640"/>
            <a:ext cx="48974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9ff94"/>
                </a:solidFill>
                <a:latin typeface="Tahoma"/>
                <a:ea typeface="Tahoma"/>
              </a:rPr>
              <a:t>     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9ff94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Штрафные санкции: 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Если определена кадастровая стоимость земельного участка: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- на граждан в размере от 1 до 1,5 процента кадастровой стоимости земельного участка, но не менее 20 тысяч рублей;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- на должностных лиц - от 1,5 до 2 процентов кадастровой стоимости земельного участка, но не менее 50 тысяч рублей; 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- на юридических лиц - от 3 до 5 процентов кадастровой  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стоимости земельного участка, но не менее 400 тысяч рублей.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Если не определена кадастровая стоимость земельного участка: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- на граждан в размере от 20 до 50  тысяч рублей; 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- на должностных лиц – от 50 до 100 тысяч рублей;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300" spc="-1" strike="noStrike">
                <a:solidFill>
                  <a:srgbClr val="94ff29"/>
                </a:solidFill>
                <a:latin typeface="Tahoma"/>
                <a:ea typeface="Tahoma"/>
              </a:rPr>
              <a:t>- на юридических лиц – от 400 тысяч до 700 тысяч рублей.</a:t>
            </a: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326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59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250920" y="981000"/>
            <a:ext cx="864216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Статья 8.8. Использование земельных участков не по целевому назначению, невыполнение обязанностей по приведению земель в состояние, пригодное для использования по целевому назначению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Статья 8.8. Использование земельных участков не по целевому назначению, невыполнение обязанностей по приведению земель в состояние, пригодное для использования по целевому назначению</a:t>
            </a:r>
            <a:br>
              <a:rPr sz="2000"/>
            </a:b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Часть 4 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Невыполнение или несвоевременное выполнение обязанностей по приведению земель в состояние, пригодное для использования по целевому назначению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 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   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Штрафные санкции: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- на граждан от 20 до 50 тысяч рублей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- на должностных лиц – от 100 до 200 тысяч рублей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35880" indent="-335880" algn="just">
              <a:lnSpc>
                <a:spcPct val="115000"/>
              </a:lnSpc>
              <a:spcBef>
                <a:spcPts val="374"/>
              </a:spcBef>
              <a:spcAft>
                <a:spcPts val="1001"/>
              </a:spcAft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- на юридических лиц – от 200 до 400  тысяч рублей.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64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 2017 году на территории Павловского муниципального района проведено 35  (тридцать пять) проверок в рамках муниципального земельного контроля в отношении земельных участков, находящихся в пользовании физических и юридических лиц, по результатам которых выявлено 16 (шестнадцать) нарушений требований земельного законодательства. Из них:</a:t>
            </a: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- 7 случаев самовольного занятия земель, государственная собственность на которые не разграничена; </a:t>
            </a: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-  9 случаев нецелевого использования  земель, находящихся в частной собственности. </a:t>
            </a: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атериалы проверок в установленный срок были направлены в орган  госземнадзора – межмуниципальный отдел по Павловскому, Богучарскому и Верхнемамонскому районам Управления Росреестра по Воронежской области. </a:t>
            </a: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Органом госземнадзора принято 14 (четырнадцать) решений о возбуждении дел об административных правонарушениях, в результате чего на правонарушителей наложено административных штрафов на общую сумму 100 тыс.руб.</a:t>
            </a: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5"/>
          <p:cNvGraphicFramePr/>
          <p:nvPr/>
        </p:nvGraphicFramePr>
        <p:xfrm>
          <a:off x="461880" y="3852720"/>
          <a:ext cx="4554720" cy="22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852720"/>
                    <a:ext cx="455472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cc00"/>
                </a:solidFill>
                <a:latin typeface="Monotype Corsiva"/>
              </a:rPr>
              <a:t>СПАСИБО  </a:t>
            </a:r>
            <a:endParaRPr b="0" lang="en-US" sz="10000" spc="-1" strike="noStrike">
              <a:solidFill>
                <a:srgbClr val="e6e6d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cc00"/>
                </a:solidFill>
                <a:latin typeface="Monotype Corsiva"/>
              </a:rPr>
              <a:t>за  внимание!</a:t>
            </a:r>
            <a:endParaRPr b="0" lang="en-US" sz="10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69" name="Picture 8" descr="Копия 151886204"/>
          <p:cNvPicPr/>
          <p:nvPr/>
        </p:nvPicPr>
        <p:blipFill>
          <a:blip r:embed="rId3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96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e6da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fff1a"/>
                </a:solidFill>
                <a:latin typeface="Tahoma"/>
              </a:rPr>
              <a:t>Муниципальный земельный контроль –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1a"/>
                </a:solidFill>
                <a:latin typeface="Tahoma"/>
              </a:rPr>
              <a:t>это деятельность органов местного самоуправления по контролю за соблюдением органами государственной власти, органами местного самоуправления, юридическими лицами, индивидуальными предпринимателями, гражданами в отношении объектов земельных отношений требований законодательства Российской Федерации, законодательства Воронежской области,  за нарушение которых  предусмотрена административная и иная ответственность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18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20101202130432"/>
          <p:cNvPicPr/>
          <p:nvPr/>
        </p:nvPicPr>
        <p:blipFill>
          <a:blip r:embed="rId2"/>
          <a:stretch/>
        </p:blipFill>
        <p:spPr>
          <a:xfrm>
            <a:off x="250920" y="450864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21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4"/>
          <p:cNvSpPr/>
          <p:nvPr/>
        </p:nvSpPr>
        <p:spPr>
          <a:xfrm>
            <a:off x="179280" y="1628640"/>
            <a:ext cx="432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f907"/>
                </a:solidFill>
                <a:latin typeface="Tahoma"/>
              </a:rPr>
              <a:t>Администрация Павловского муниципального района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f907"/>
                </a:solidFill>
                <a:latin typeface="Tahoma"/>
              </a:rPr>
              <a:t>является органом, уполномоченным на осуществление муниципального земельного контроля на территории сельских поселений Павловского муниципального района.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f907"/>
                </a:solidFill>
                <a:latin typeface="Tahoma"/>
              </a:rPr>
              <a:t>Организацию осуществления  данной функции обеспечивает  МОУМИ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23" name="Picture 15" descr="D:\Рабочий стол\МЗК 2017\949251.jpg"/>
          <p:cNvPicPr/>
          <p:nvPr/>
        </p:nvPicPr>
        <p:blipFill>
          <a:blip r:embed="rId2"/>
          <a:stretch/>
        </p:blipFill>
        <p:spPr>
          <a:xfrm>
            <a:off x="4427640" y="1268280"/>
            <a:ext cx="4537080" cy="4969080"/>
          </a:xfrm>
          <a:prstGeom prst="rect">
            <a:avLst/>
          </a:prstGeom>
          <a:ln w="9360">
            <a:solidFill>
              <a:srgbClr val="63795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 advTm="400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125360"/>
            <a:ext cx="8856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Порядок осуществления функции по муниципальному земельному контролю регламентируется :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a"/>
                </a:solidFill>
                <a:latin typeface="Tahoma"/>
                <a:ea typeface="Tahoma"/>
              </a:rPr>
              <a:t>Земельным кодексом Российской Федерации;  </a:t>
            </a: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a"/>
                </a:solidFill>
                <a:latin typeface="Tahoma"/>
                <a:ea typeface="Tahoma"/>
              </a:rPr>
              <a:t>Федеральным законом от 26.12.2008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; </a:t>
            </a: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a"/>
                </a:solidFill>
                <a:latin typeface="Tahoma"/>
                <a:ea typeface="Tahoma"/>
              </a:rPr>
              <a:t>Законом Воронежской области от 18.07.2016 № 106-ОЗ «О порядке осуществления муниципального земельного контроля на территории Воронежской области»; </a:t>
            </a: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a"/>
                </a:solidFill>
                <a:latin typeface="Tahoma"/>
                <a:ea typeface="Tahoma"/>
              </a:rPr>
              <a:t>Уставом Павловского муниципального района Воронежской области;</a:t>
            </a: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a"/>
                </a:solidFill>
                <a:latin typeface="Tahoma"/>
                <a:ea typeface="Tahoma"/>
              </a:rPr>
              <a:t>Административным регламентом осуществления муниципального земельного контроля на   территории сельских поселений Павловского муниципального района, утвержденным  постановлением администрации Павловского муниципального района от 26.06.2017 № 490 </a:t>
            </a: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a"/>
                </a:solidFill>
                <a:latin typeface="Tahoma"/>
                <a:ea typeface="Tahoma"/>
              </a:rPr>
              <a:t>иными нормативными правовыми актами, регулирующими осуществление муниципального земельного контроля .</a:t>
            </a: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26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708280"/>
            <a:ext cx="4465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174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Плановые проверки проводятся в соответствии с планами, утвержденными в установленном порядке.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spcBef>
                <a:spcPts val="174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В отношении юридических лиц и индивидуальных предпринимателей плановые проверки проводятся не чаще чем один раз в три года.  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291600" indent="-291600" algn="just">
              <a:lnSpc>
                <a:spcPct val="100000"/>
              </a:lnSpc>
              <a:spcBef>
                <a:spcPts val="174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Основанием для включения юридических лиц и ИП в ежегодный план проведения плановых проверок является истечение трех лет со дня: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      </a:t>
            </a: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1) государственной регистрации юридического лица, индивидуального предпринимателя;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      </a:t>
            </a:r>
            <a:r>
              <a:rPr b="0" lang="ru-RU" sz="1400" spc="-1" strike="noStrike">
                <a:solidFill>
                  <a:srgbClr val="ffff1a"/>
                </a:solidFill>
                <a:latin typeface="Tahoma"/>
                <a:ea typeface="Tahoma"/>
              </a:rPr>
              <a:t>2) окончания проведения последней плановой проверки юридического лица, индивидуального предпринимателя.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28" name="Picture 13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703440" y="1125360"/>
            <a:ext cx="8116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187280" y="1125360"/>
            <a:ext cx="698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Муниципальный  земельный контроль осуществляется в форме проверок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4360" y="1989000"/>
          <a:ext cx="3960720" cy="5050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c215"/>
                          </a:solidFill>
                          <a:latin typeface="Tahoma"/>
                        </a:rPr>
                        <a:t>Плановые проверки</a:t>
                      </a:r>
                      <a:r>
                        <a:rPr b="1" lang="ru-RU" sz="1300" spc="-1" strike="noStrike">
                          <a:solidFill>
                            <a:srgbClr val="ebc215"/>
                          </a:solidFill>
                          <a:latin typeface="Tahoma"/>
                        </a:rPr>
                        <a:t> </a:t>
                      </a:r>
                      <a:endParaRPr b="0" lang="en-US" sz="1300" spc="-1" strike="noStrike">
                        <a:solidFill>
                          <a:srgbClr val="e6e6d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3f907"/>
                      </a:solidFill>
                    </a:lnL>
                    <a:lnR w="5760">
                      <a:solidFill>
                        <a:srgbClr val="f3f907"/>
                      </a:solidFill>
                    </a:lnR>
                    <a:lnT w="5760">
                      <a:solidFill>
                        <a:srgbClr val="f3f907"/>
                      </a:solidFill>
                    </a:lnT>
                    <a:lnB w="5760">
                      <a:solidFill>
                        <a:srgbClr val="f3f90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219640" y="1989000"/>
          <a:ext cx="3600360" cy="50508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c215"/>
                          </a:solidFill>
                          <a:latin typeface="Tahoma"/>
                        </a:rPr>
                        <a:t>Внеплановые проверки</a:t>
                      </a:r>
                      <a:endParaRPr b="0" lang="en-US" sz="1800" spc="-1" strike="noStrike">
                        <a:solidFill>
                          <a:srgbClr val="e6e6d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3f907"/>
                      </a:solidFill>
                    </a:lnL>
                    <a:lnR w="5760">
                      <a:solidFill>
                        <a:srgbClr val="f3f907"/>
                      </a:solidFill>
                    </a:lnR>
                    <a:lnT w="5760">
                      <a:solidFill>
                        <a:srgbClr val="f3f907"/>
                      </a:solidFill>
                    </a:lnT>
                    <a:lnB w="5760">
                      <a:solidFill>
                        <a:srgbClr val="f3f90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3"/>
          <p:cNvSpPr/>
          <p:nvPr/>
        </p:nvSpPr>
        <p:spPr>
          <a:xfrm flipH="1">
            <a:off x="5076000" y="2700360"/>
            <a:ext cx="38070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</a:rPr>
              <a:t>Для проверки исполнения предписаний об устранении ранее выявленных нарушений земельного законодательства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1a"/>
                </a:solidFill>
                <a:latin typeface="Tahoma"/>
              </a:rPr>
              <a:t>В случае получения от органов государственной власти, органов местного самоуправления, организаций и граждан документов и иных доказательств, свидетельствующих о наличии признаков нарушения земельного законодательства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34" name="Picture 13" descr="1238371302_img_0541_resize"/>
          <p:cNvPicPr/>
          <p:nvPr/>
        </p:nvPicPr>
        <p:blipFill>
          <a:blip r:embed="rId2"/>
          <a:stretch/>
        </p:blipFill>
        <p:spPr>
          <a:xfrm>
            <a:off x="5148360" y="5084640"/>
            <a:ext cx="3600360" cy="15843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7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Основанием для проведения внеплановой проверки в отношении юридических лиц и индивидуальных предпринимателей является (п.2 ст. 10 Федерального закона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от 26.12.2008 № 294-ФЗ):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</a:rPr>
              <a:t>истечение срока исполнения юридическим лицом, индивидуальным предпринимателем ранее выданного предписания об устранении выявленного нарушения обязательных требований и (или) требований, установленных муниципальными правовыми актами;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</a:rPr>
              <a:t>поступление в органы государственного контроля (надзора), органы муниципального контроля обращений и заявлений граждан, юридических лиц, индивидуальных предпринимателей, информации от органов государственной власти, органов местного самоуправления, из средств массовой информации о фактах: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</a:rPr>
              <a:t>возникновение угрозы причинения и причинение вреда жизни, здоровью граждан, вреда животным, растениям, окружающей среде, объектам культурного наследия (памятникам истории и культуры) народов Российской Федерации, безопасности государства, а также угрозы чрезвычайных ситуаций природного и техногенного характера;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e6e6d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</a:rPr>
              <a:t>иные основания, предусмотренные данной статьей.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36" name="Picture 7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16000" y="2636640"/>
            <a:ext cx="4427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Штрафные санкции: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В случае, если определена кадастровая стоимость земельного участка: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граждан в размере от 1 до 1,5 процента кадастровой стоимости земельного участка, но не менее 5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должностных лиц - от 1,5 до 2 процентов кадастровой стоимости земельного участка, но не менее 2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юридических лиц - от 2 до 3 процентов кадастровой стоимости земельного участка, но не менее 100 тысяч рублей,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В случае, если не определена кадастровая стоимость земельного участка: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граждан в размере от 5 до 1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должностных лиц – от 20 до 50 тысяч рублей; 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ff29"/>
                </a:solidFill>
                <a:latin typeface="Tahoma"/>
              </a:rPr>
              <a:t>- на юридических лиц – от 100 до 200 тысяч рублей.</a:t>
            </a:r>
            <a:endParaRPr b="0" lang="en-US" sz="14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908720" y="1316160"/>
            <a:ext cx="55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9900"/>
                </a:solidFill>
                <a:latin typeface="Tahoma"/>
              </a:rPr>
              <a:t>Статья 7.1. Самовольное занятие земельного участка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39" name="Picture 8" descr="_kvupli06"/>
          <p:cNvPicPr/>
          <p:nvPr/>
        </p:nvPicPr>
        <p:blipFill>
          <a:blip r:embed="rId1"/>
          <a:stretch/>
        </p:blipFill>
        <p:spPr>
          <a:xfrm>
            <a:off x="179280" y="3429000"/>
            <a:ext cx="4267440" cy="2808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0" y="1844640"/>
            <a:ext cx="514836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3f907"/>
                </a:solidFill>
                <a:latin typeface="Tahoma"/>
              </a:rPr>
              <a:t>Самовольное занятие земельного участка или части земельного участка, в том числе использование земельного участка лицом, не имеющим предусмотренных законодательством Российской Федерации прав на указанный земельный участок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41" name="Picture 10" descr="Копия 151886204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000" y="1267920"/>
            <a:ext cx="83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Статья 8.6. Порча земель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Часть 1.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     </a:t>
            </a: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Самовольное снятие или перемещение плодородного слоя почвы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      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Штрафные санкции:  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граждан в размере от 1 до 3 тысяч рублей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должностных лиц – от 5 до 10 тысяч рублей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юридических лиц – от 30  до  50 тысяч рублей.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Часть 2. 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      </a:t>
            </a: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Уничтожение плодородного слоя почвы, а равно порча земель в результате нарушения правил обращения с пестицидами и агрохимикатами или иными опасными для здоровья людей и окружающей среды веществами и отходами производства и потребления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      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Штрафные санкции:  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 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граждан в размере от 3 до 5 тысяч рублей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 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должностных лиц – от 10 до 30 тысяч рублей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 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лиц, осуществляющих предпринимательскую деятельность без образования юридического лица, - от 20 до 40 тысяч рублей или административное приостановление деятельности на срок до 90 суток; 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на юридических лиц – от 40 до 80 тысяч рублей или административное приостановление деятельности на срок до 90 суток.</a:t>
            </a:r>
            <a:endParaRPr b="0" lang="en-US" sz="15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43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Статья 8.7. Невыполнение обязанностей по рекультивации земель, обязательных мероприятий по улучшению земель и охране поч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9900"/>
                </a:solidFill>
                <a:latin typeface="Tahoma"/>
                <a:ea typeface="Tahoma"/>
              </a:rPr>
              <a:t>Часть 2.</a:t>
            </a:r>
            <a:br>
              <a:rPr sz="1500"/>
            </a:br>
            <a:r>
              <a:rPr b="0" lang="ru-RU" sz="1500" spc="-1" strike="noStrike">
                <a:solidFill>
                  <a:srgbClr val="ffff1a"/>
                </a:solidFill>
                <a:latin typeface="Tahoma"/>
                <a:ea typeface="Tahoma"/>
              </a:rPr>
              <a:t>Невыполнение установленных требований и обязательных мероприятий по улучшению, защите земель и охране почв от ветровой, водной эрозии и предотвращению других процессов и иного негативного воздействия на окружающую среду, ухудшающих качественное состояние земель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c9ff94"/>
                </a:solidFill>
                <a:latin typeface="Tahoma"/>
                <a:ea typeface="Tahoma"/>
              </a:rPr>
              <a:t> </a:t>
            </a: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Штрафные санкции: </a:t>
            </a:r>
            <a:br>
              <a:rPr sz="1500"/>
            </a:b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- на граждан в размере от 20 до 50 тысяч рублей;</a:t>
            </a:r>
            <a:br>
              <a:rPr sz="1500"/>
            </a:b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- на должностных лиц – от 50 до 100 тысяч рублей; </a:t>
            </a:r>
            <a:br>
              <a:rPr sz="1500"/>
            </a:br>
            <a:r>
              <a:rPr b="0" lang="ru-RU" sz="1500" spc="-1" strike="noStrike">
                <a:solidFill>
                  <a:srgbClr val="94ff29"/>
                </a:solidFill>
                <a:latin typeface="Tahoma"/>
                <a:ea typeface="Tahoma"/>
              </a:rPr>
              <a:t>- на юридических лиц – от 400 до 700 тысяч рублей.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45" name="Picture 10" descr="Копия 151886204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1:28:38Z</dcterms:created>
  <dc:creator>1</dc:creator>
  <dc:description/>
  <cp:keywords/>
  <dc:language>en-US</dc:language>
  <cp:lastModifiedBy>МОУМИ</cp:lastModifiedBy>
  <dcterms:modified xsi:type="dcterms:W3CDTF">2018-01-16T12:27:24Z</dcterms:modified>
  <cp:revision>75</cp:revision>
  <dc:subject/>
  <dc:title>География сельского хозя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71049</vt:lpwstr>
  </property>
</Properties>
</file>